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A83E-DBD4-4548-AEF6-9634F6C50D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200" spc="-1" strike="noStrike" u="sng">
                <a:solidFill>
                  <a:srgbClr val="ff9999"/>
                </a:solidFill>
                <a:uFillTx/>
                <a:latin typeface="Calibri"/>
              </a:rPr>
              <a:t>Психология творческого саморазвит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8475-6AC1-4C14-8234-6A168502A8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Черты творческой личности </a:t>
            </a:r>
            <a:r>
              <a:rPr b="1" i="1" lang="ru-RU" sz="1100" spc="-1" strike="noStrike" u="sng">
                <a:solidFill>
                  <a:srgbClr val="ff3300"/>
                </a:solidFill>
                <a:uFillTx/>
                <a:latin typeface="Calibri"/>
              </a:rPr>
              <a:t>(по А.Н.Луку)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к рис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ульсивность, порывистость и независимость сужд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успехов в учебных предм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юмора и склонность к шут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бытность, но без оригинальнич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ая дотош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елание принять на веру критический взгляд на такие вещи, которые якобы должны стать священ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лость воображения и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E918-B515-4D9B-9B67-853CB0E4EA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6699"/>
                </a:solidFill>
                <a:uFillTx/>
                <a:latin typeface="Calibri"/>
              </a:rPr>
              <a:t>Кредо творческой личности</a:t>
            </a:r>
            <a:r>
              <a:rPr b="0" lang="ru-RU" sz="1200" spc="-1" strike="noStrike">
                <a:solidFill>
                  <a:srgbClr val="ff6699"/>
                </a:solidFill>
                <a:latin typeface="Calibri"/>
              </a:rPr>
              <a:t> 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ера в себ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и творческие способ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идательные сил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творческую иде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9D86-250D-4DEC-849B-611F9835CF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ff99"/>
                </a:solidFill>
                <a:latin typeface="Calibri"/>
              </a:rPr>
              <a:t>Творческая л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это такой тип личности, для которой характерна устойчивая, высокого уровня направленность на творчество, мотивационно-творческая активность, которая проявляется в органическом единстве с высоким уровнем творческих способностей и которые позволяют ей достигнуть прогрессивных, социально и лично значимых творческих результатов в одном или нескольких видах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6E30-7326-4067-AA1B-F5F1DBFD85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ипы творческих личност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526A-AE11-4BDD-B8CE-149B86C1AA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cc00"/>
                </a:solidFill>
                <a:uFillTx/>
                <a:latin typeface="Calibri"/>
              </a:rPr>
              <a:t>Конкурентоспособная творческая 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творческая личность, которая наряду с высоким уровнем развития творческого потенциала </a:t>
            </a:r>
            <a:r>
              <a:rPr b="1" lang="ru-RU" sz="1200" spc="-1" strike="noStrike">
                <a:solidFill>
                  <a:srgbClr val="ffff99"/>
                </a:solidFill>
                <a:latin typeface="Calibri"/>
              </a:rPr>
              <a:t>обладает следующими каче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окой верой в свои сил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принимать творческие ответственные, рискованные реш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 стремящаяся к самосовершенствованию и развит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тчаивающаяся в случае временных неудач и трудност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ая много и упорно трудить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ая к прогнозированию развития событий; способная сосредоточиться на решении главных приоритетных задач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ая начатое дело доводить до ко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664D-50B0-4054-A20B-31FB737002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емь стадий саморазвития творческой лич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Перв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устойчиво проявляющимся интересом, ясно выраженной мотивационной направленностью личности на определенный вид творческой деятель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избирательной мотивационно - творческой направленности личности на определенный вид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й стадии личность как бы интуитивно чувствует, в какой сфере творческой деятельности она может проявить себя наилучшим обра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0BF9-D9F4-4AD2-9FF7-BB7F7BA38F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Втор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повышенной интеллектуальной чувствительностью личности к усмотрению противоречий и проблем в определенной сфере творческой деятель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начального творческого самоопред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стадия наиболее характерна для учащихся среднего и старшего школьного возра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A938-2193-4D5E-B22B-CE85A3DB24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Треть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повышенной профессионально-творческой активностью личности в определенном виде деятель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профессионально-творческого стано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й стадии характерно интенсивное творческое овладение профессиональными приемами, методами, средствами соответствующего вида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6054-CE69-43E4-8174-AD0878D51D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Четверт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я первых значительных творческих достижений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5E8A-EEAA-4CB6-91CA-CF9E714D98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Пят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высокой, устойчивой творческой продуктивностью лич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й стадии характерно формирование индивидуального творческого стиля деятельности и масте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6524-4BB7-411D-A8A4-E41D767734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Психологические законы творческого само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1. ЗАКОН НЕРАВНОМЕРНОСТИ ТВОРЧЕСКОГО САМОРАЗВИТ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творческого саморазвития отдельных способностей и качеств личности порождает противоречия, разрешение которых и создает внутренние условия для становления творческо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Там, где это возможно, опирайтесь на ваши наиболее развитые творческие способности и другие личностные качества, но постоянно активизируйте развитие слаб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13E1-47E2-41CF-B0FC-ADFCE99D2B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Шест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расцвета тала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 не просто имеет устойчивые творческие достижения, а далеко превосходит достижения современников в определенной сфере твор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5B9E-18DB-48F9-BC0A-A99B35DACF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Седьм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как гениальнос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иальность характеризует собой вершину развития творческих способностей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BE30-365E-4434-A404-8D48205213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2. ЗАКОН ЦЕЛОСТНОГО ТВОРЧЕСКОГО САМОРАЗВИТ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ессивные изменения в одном из компонентов самости (самопознании, творческом самоопределении,  самоуправлении, творческой самореализации, самосовершенствовании) с неизбежностью ускоряет процесс творческого саморазвития личности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Каждый день хоть в чем-то, но стремитесь изменить себя к лучшему. Пройдет неделя, месяц, год и вы поймете, что вы в целом стали умнее, сильнее, добр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861D-C85B-472B-BA00-95BDF4930E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3. ЗАКОН СВОБОДЫ 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й свободы добивается личность в творчестве, тем большей эффективности она достигает в этом виде деятельности и в творческом саморазви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Не давайте загнать себя в угол! Всякий раз отстаивайте свое право на творчество, право выбора в принятии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C25E-DC4C-4150-82B5-06B387A485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4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. ЗАКОН САМОУСЛОЖНЕНИЯ ТВОРЧЕСКИХ ЗАДАЧ И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ворческого саморазвития личности осуществляется тем эффективнее, чем более сложные, трудные и вместе с тем посильные для себя творческие задачи личность выбирает и реш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</a:t>
            </a:r>
            <a:r>
              <a:rPr b="1" lang="ru-RU" sz="1200" spc="-1" strike="noStrike">
                <a:solidFill>
                  <a:srgbClr val="ff9900"/>
                </a:solidFill>
                <a:latin typeface="Calibri"/>
              </a:rPr>
              <a:t>4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Не ищите для себя слишком легких задач; постепенно усложняйте для себя творческие задачи проблемы, соизмеряя их со своими силами и способ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C4E7-9E24-4CDD-9BEC-95318E566B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5. 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ЗАКОН ПЕРИОДИЧЕСКОЙ МОБИЛИЗАЦИИ И РЕЛА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еская мобилизация и релаксация создают благоприятные условия и для творческого саморазвития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5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Овладевайте наиболее эффективными приемами периодической мобилизации и релакс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73EA-E6B9-45E0-B829-B09C790B97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6. ЗАКОН УСКОРЕНИЯ ТВОРЧЕСКОГО САМОРАЗВИТИЯ В УСЛОВИЯХ КОНКУРЕНЦИИ И СТРЕМЛЕНИЯ К ЛИДЕР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ворческого саморазвития существенно ускоряется, если личность достаточно мотивирована к лидерству в конкурентной борьбе с сильным и достойным сопер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6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Стремясь к лидерству, не бойтесь конкурентно борьбы, но при этом ищите не только слабые места конкурента та, но и учитесь у него. Настоящий лидер побеждает своего конкурента дважды: вначале интеллектуально и морально, затем реаль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1191-C032-44B8-B93E-A6180C321A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7. 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ЗАКОН С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е саморазвитие личности осуществляется тем эффективнее, чем большей продуктивности она достигает в процессе сотворчества и кооперации в решении творчески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7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щите себе Учителя — творческую личность! Ваше творческое саморазвитие и становление как творческой личности возможно не иначе, как через сотворчество с талантливой, творческой лич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5023-93F6-4215-B938-70476B4B47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ворческая лич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"Творческая личность представляет собой прогрессивный элемент, дающий все ново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К.Энгельмей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DF41-F8DF-4CB1-B606-D0C9E7B721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361-D4EB-4F0E-91E7-38D09DBE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E1B-2611-461E-A287-9CB18C67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8F0-DC8C-4E62-9D71-87E676E0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F84-E4AB-476F-A32D-62455E34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B497-C32D-46B2-B654-3DB4E172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783E-6C64-4397-9B08-23EB7A0B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5A41-DFC8-4649-A0E6-2AED8199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47A9-6D8F-41D7-BA78-BC12C6DD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FB3C-088D-4191-90F2-7F3EFB3F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7F90-5E7C-4778-ADFE-3A3FC1E9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6F57-1C3C-41A3-84C5-0B74CF08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52F-DCD6-4D5A-8F72-2283625B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F89A-34D0-4ABE-85E1-19547BFE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6C97-2D0B-4D1B-9D98-44E135A6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0614-EDB7-4B6F-A3F2-EEE85622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3AC8-5EA1-4B3F-B52B-EEEDFA3A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A3FA-6C3D-409B-AC9C-5142EF79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FE06-0F53-49B1-8DDC-32F0358E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B818-AC99-4EFF-828E-37DD97DB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38C-369E-42C4-87AA-997DCB4F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A08C-9D64-4C6B-A1B2-3EDC35C2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3AB-E128-43C5-8156-F2DC61F4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EAC-A659-4133-AC86-E6CEAE79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5584-F4D8-4041-890E-16304886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18DF-0C6E-4AC1-8B78-8EDF965ABC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D206-AAEB-4C78-AF2D-FCACD10AEF8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6000" spc="-1" strike="noStrike" u="sng">
                <a:solidFill>
                  <a:srgbClr val="ff9999"/>
                </a:solidFill>
                <a:uFillTx/>
                <a:latin typeface="Arial"/>
              </a:rPr>
              <a:t>Психология творческого саморазвития.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Черты творческой личности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(по А.Н.Луку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Готовность к риску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пульсивность, порывистость и независимость суждений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Неравномерность успехов в учебных предметах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Чувство юмора и склонность к шутке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амобытность, но без оригинальничания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ознавательная дотошность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Нежелание принять на веру критический взгляд на такие вещи, которые якобы должны стать священными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мелость воображения и мысли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435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6699"/>
                </a:solidFill>
                <a:uFillTx/>
                <a:latin typeface="Arial"/>
              </a:rPr>
              <a:t>Кредо творческой личности</a:t>
            </a:r>
            <a:r>
              <a:rPr b="0" lang="ru-RU" sz="2800" spc="-1" strike="noStrike">
                <a:solidFill>
                  <a:srgbClr val="ff6699"/>
                </a:solidFill>
                <a:latin typeface="Arial"/>
              </a:rPr>
              <a:t> —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вера в себ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ои творческие способност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идательные сил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ою творческую иде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99"/>
                </a:solidFill>
                <a:latin typeface="Arial"/>
              </a:rPr>
              <a:t>Творческая личност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— это такой тип личности, для которой характерна устойчивая, высокого уровня направленность на творчество, мотивационно-творческая активность, которая проявляется в органическом единстве с высоким уровнем творческих способностей и которые позволяют ей достигнуть прогрессивных, социально и лично значимых творческих результатов в одном или нескольких видах деятельност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Типы творческих личносте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0" y="841320"/>
          <a:ext cx="9144000" cy="587844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35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наки для классификаци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творческих личнос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По соотношению развития интуиции (фантазии, воображения) и логик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интуитивист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эврист); художественный тип б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лог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мыслительный тип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По соотношению развития способностей к решению теоретических или практических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теоретик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лоток-теоретик), теоретик-интуитивист б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практ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экспериментатор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По соотношению развития способностей к коллективному решению творческих зада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организатор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б) инициатор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исполни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3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По соотношению развития способностей в зависимости от способа перекодирования информации (идея этой классификации принадлежит А.Н.Луку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художн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скульптор (зрительно-пространственный способ перекодирования информаци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писатель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журналист (словеснообразная информация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математ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кибернетик (абстрактно-цифровая информация) г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музыкант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звуковая-образная информация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инженер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изобретатель (конструктивно-техническая информация) е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педагог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организатор предприятия (социально- коммуникативная информация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Конкурентоспособная творческая лич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это творческая личность, которая наряду с высоким уровнем развития творческого потенциала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бладает следующими качеств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убокой верой в свои сил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стью принимать творческие ответственные, рискованные реш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оянно стремящаяся к самосовершенствованию и развитию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отчаивающаяся в случае временных неудач и трудносте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ая много и упорно трудить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ая к прогнозированию развития событий; способная сосредоточиться на решении главных приоритетных задач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ая начатое дело доводить до кон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емь стадий саморазвития творческой личност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99"/>
                </a:solidFill>
                <a:latin typeface="Arial"/>
              </a:rPr>
              <a:t>Первая стад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уется устойчиво проявляющимся интересом, ясно выраженной мотивационной направленностью личности на определенный вид творческой деятель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тадия избирательной мотивационно - творческой направленности личности на определенный вид деятельност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этой стадии личность как бы интуитивно чувствует, в какой сфере творческой деятельности она может проявить себя наилучшим образ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99"/>
                </a:solidFill>
                <a:latin typeface="Arial"/>
              </a:rPr>
              <a:t>Вторая стад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уется повышенной интеллектуальной чувствительностью личности к усмотрению противоречий и проблем в определенной сфере творческой деятельности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тадия начального творческого самоопред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стадия наиболее характерна для учащихся среднего и старшего школьно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99"/>
                </a:solidFill>
                <a:latin typeface="Arial"/>
              </a:rPr>
              <a:t>Третья стад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уется повышенной профессионально-творческой активностью личности в определенном виде деятельности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тадия профессионально-творческого стано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этой стадии характерно интенсивное творческое овладение профессиональными приемами, методами, средствами соответствующего вида де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Четверт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дия первых значительных творческих достижений лич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Пят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арактеризуется высокой, устойчивой творческой продуктивностью личности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я этой стадии характерно формирование индивидуального творческого стиля деятельности и мастер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ff99"/>
                </a:solidFill>
                <a:latin typeface="Arial"/>
              </a:rPr>
              <a:t>Психологические законы творческого саморазви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1. ЗАКОН НЕРАВНОМЕРНОСТИ ТВОРЧЕСКОГО САМОРАЗВИТ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равномерность творческого саморазвития отдельных способностей и качеств личности порождает противоречия, разрешение которых и создает внутренние условия для становления творческой лич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1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Там, где это возможно, опирайтесь на ваши наиболее развитые творческие способности и другие личностные качества, но постоянно активизируйте развитие слабы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Шест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3600" spc="-1" strike="noStrike">
                <a:solidFill>
                  <a:srgbClr val="ffccff"/>
                </a:solidFill>
                <a:latin typeface="Arial"/>
              </a:rPr>
              <a:t>стадия расцвета талант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чность не просто имеет устойчивые творческие достижения, а далеко превосходит достижения современников в определенной сфере творческой деятель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Седьм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арактеризуется как гениальность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ниальность характеризует собой вершину развития творческих способностей лич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2. ЗАКОН ЦЕЛОСТНОГО ТВОРЧЕСКОГО САМОРАЗВИТ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грессивные изменения в одном из компонентов самости (самопознании, творческом самоопределении,  самоуправлении, творческой самореализации, самосовершенствовании) с неизбежностью ускоряет процесс творческого саморазвития личности в цело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2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Каждый день хоть в чем-то, но стремитесь изменить себя к лучшему. Пройдет неделя, месяц, год и вы поймете, что вы в целом стали умнее, сильнее, добре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3. ЗАКОН СВОБОДЫ ТВОР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ем большей свободы добивается личность в творчестве, тем большей эффективности она достигает в этом виде деятельности и в творческом саморазвит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3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Не давайте загнать себя в угол! Всякий раз отстаивайте свое право на творчество, право выбора в принятии решен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. ЗАКОН САМОУСЛОЖНЕНИЯ ТВОРЧЕСКИХ ЗАДАЧ И ПРОБЛ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цесс творческого саморазвития личности осуществляется тем эффективнее, чем более сложные, трудные и вместе с тем посильные для себя творческие задачи личность выбирает и реша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</a:t>
            </a:r>
            <a:r>
              <a:rPr b="1" lang="ru-RU" sz="26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Не ищите для себя слишком легких задач; постепенно усложняйте для себя творческие задачи проблемы, соизмеряя их со своими силами и способностям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ЗАКОН ПЕРИОДИЧЕСКОЙ МОБИЛИЗАЦИИ И РЕЛАКС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ериодическая мобилизация и релаксация создают благоприятные условия и для творческого саморазвития лич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5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Овладевайте наиболее эффективными приемами периодической мобилизации и релаксац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6. ЗАКОН УСКОРЕНИЯ ТВОРЧЕСКОГО САМОРАЗВИТИЯ В УСЛОВИЯХ КОНКУРЕНЦИИ И СТРЕМЛЕНИЯ К ЛИДЕРСТ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цесс творческого саморазвития существенно ускоряется, если личность достаточно мотивирована к лидерству в конкурентной борьбе с сильным и достойным соперником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6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Стремясь к лидерству, не бойтесь конкурентно борьбы, но при этом ищите не только слабые места конкурента та, но и учитесь у него. Настоящий лидер побеждает своего конкурента дважды: вначале интеллектуально и морально, затем реально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7.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ЗАКОН СОТВОР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ворческое саморазвитие личности осуществляется тем эффективнее, чем большей продуктивности она достигает в процессе сотворчества и кооперации в решении творческих задач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7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Ищите себе Учителя — творческую личность! Ваше творческое саморазвитие и становление как творческой личности возможно не иначе, как через сотворчество с талантливой, творческой личность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Творческая лич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"Творческая личность представляет собой прогрессивный элемент, дающий все новое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.К.Энгельмей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64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65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8" dur="1500" fill="hold">
                                          <p:stCondLst>
                                            <p:cond delay="3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71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72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5" dur="1500" fill="hold">
                                          <p:stCondLst>
                                            <p:cond delay="3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2:02:34Z</dcterms:created>
  <dc:creator>Valerik</dc:creator>
  <dc:description/>
  <dc:language>en-US</dc:language>
  <cp:lastModifiedBy>LEGION</cp:lastModifiedBy>
  <dcterms:modified xsi:type="dcterms:W3CDTF">2014-11-12T10:47:21Z</dcterms:modified>
  <cp:revision>7</cp:revision>
  <dc:subject/>
  <dc:title>Психология творческого саморазвития Психологические законы творческого саморазвития</dc:title>
</cp:coreProperties>
</file>